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FEAD-5D72-4608-851A-0C0B7DCB1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E69A-D2FF-4D32-AC7F-F360919D0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82C1-40CD-446A-91B6-CA571E577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70DC-181E-402C-AE5E-41BCB4FD7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B481-44DB-4656-BCD4-AA3B647F8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8963-1270-4059-8D42-705FA09FCB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B2F3-D064-42EF-B763-032D14A0DF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603B-ECDE-4C17-B904-0FA185C7AF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9243-808B-41F9-BC17-4EE400175E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E1EB-32F1-4242-9ADD-80D19E366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9293-BA2F-446A-A8B7-5B36BD1CCE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3791-A350-4A91-8BF9-E084C23F95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D6DE-0F53-4510-9A5A-4FC5F1AFC5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B9F8-1DE0-4F36-A7D9-E2834BD11C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AC46-3CD5-4CE7-85E0-6703C26881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F80C-11D1-4AED-BA01-5256ED7FE9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82D0-8654-4E1B-8A48-6C88803C79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ED25-BC99-4994-9294-1818A0E02D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6D5E-7A09-465B-B169-FCAD5B54AC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3DDD-FB7A-412A-94BB-586152404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32A0-E48D-47F1-A6F6-D93354121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01F4-6715-4EC4-90D1-B399664F6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3A62-C287-4B0B-BC0A-B31B7A91B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706A-59DE-4D8F-ABB0-40CF8AA23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4855-336D-4399-9F83-7C97FDF9A92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3244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19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AB5D-B185-4738-8192-4487D6649D7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visualrankin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5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 Reflecting On Your Use of the 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ing on your use of the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benefits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EFCA-82A1-4DDD-A249-F6B7894D96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ing the Power of Visual Rank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0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wer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igned to support the type of activities that cover the enti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nge of cognitive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idering How the Visual Ranking Tool Can b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grated into a Classroom Projec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5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tool is open-ended and content fre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tool can be integrated into existing units and project pla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tool supports a variety of strategi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5740-8393-4073-8104-EC14C8FC7E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Viewing Sample Project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1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intel.com/education/visualrankin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two or three project or unit examp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 how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used in each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your thoughts and ide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itional project examples in Appendix C.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63B6-623E-4186-B1CA-D346609C6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nking about Your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11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ideas for effective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er to the Project Rubric on page 2.18 to help clarify your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50BA-1198-4670-BF7A-956E9BB6D7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5760" y="1600200"/>
          <a:ext cx="8237520" cy="26665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5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247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Aft>
                          <a:spcPts val="451"/>
                        </a:spcAft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project that has students prioritizing, choosing among options, and/or evaluating different perspectives could benefit from the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 be used at any stage of a learning project to help students discuss their prior knowledge, put learning in a new context, or to assess or reflect on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49F5-B0B3-465E-9DC3-2C58D11F39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6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idering th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sual Ranking Tool for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a project idea that incorporates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, share, and reflect on a practice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experience us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A153-536A-4121-82B5-21C57DA7C6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19B3-4D0F-42AB-A8F6-AF7D7758B7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geting Thinking in the Classro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signing Standards-Based Project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749"/>
              </a:spcBef>
              <a:spcAft>
                <a:spcPts val="499"/>
              </a:spcAft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Curriculum-Framing Question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inking Skill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assessment method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e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o evaluate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sessment ide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raft an Assessmen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D407-B0EE-4D53-9D5E-E01665D652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5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Visual Ranking Tool to Target Thinking Skills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a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ACF0-F660-4660-935D-958AFEBDE6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066680"/>
          <a:ext cx="8237520" cy="4343400"/>
        </p:xfrm>
        <a:graphic>
          <a:graphicData uri="http://schemas.openxmlformats.org/drawingml/2006/table">
            <a:tbl>
              <a:tblPr/>
              <a:tblGrid>
                <a:gridCol w="1906560"/>
                <a:gridCol w="633096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34EE-0CCF-4C42-A56B-C61F9FBB6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5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Visual Ranking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76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and discuss a unit i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pth that integrates the u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ideas for incorporat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952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D7D4-8A57-470F-A079-90564057A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4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Visual Ranking in Actio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Benefits of Thinking Too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01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benefi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 benef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management benef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C33E-DD0C-42E5-90C7-8FFF79A4D3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roducing List Ranking in the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02–5.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helps student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ze and evaluate items in a 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criteria for s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oritize i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reaso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e lists visually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gotiate and adju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ew from multiple perspecti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5B1B-6664-4286-AAF3-C5F68AC732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Brainstorming a Lis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a 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, brainstorm a list of flower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are your list with the whole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lapse items that are simi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Logging In as a Stud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as a stud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anking Flow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21AC-1391-4C74-9D2F-5FA4F118C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Ranking and Comparing the Lis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k and compare the 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k and provide rationale in Comments box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e and discuss your list with another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the “class averag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924B-A8F4-434B-99C0-FB38922BEF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3-31T23:25:52Z</dcterms:modified>
  <cp:revision>873</cp:revision>
  <dc:subject/>
  <dc:title>Slide 1</dc:title>
</cp:coreProperties>
</file>